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75D-D9B1-40AA-A81C-D828ACA1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717-36D6-4C38-9429-C31BACB2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58A-E42A-44C4-B954-5809C0B8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B71-197F-4782-9BD0-D291D385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01E-5F48-4352-BD43-89515E6D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A85-06A0-47A8-BE50-D68EA51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A03-AC6F-4EB9-A94C-B8EB06F2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B91-0C36-46D3-8D34-569E7CBF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67C-E1A9-488D-9991-ADD5497B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475-8EC3-4C31-A3C4-FF80A8F6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A19-65F2-4BE6-BD0C-E17A16E2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FE1-547D-4DD7-927F-09D3DCBE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61D-4623-46C3-9911-E428804B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aac New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521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Lincolnshire in 16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in Kensington, London in 17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661, Newton entered Trinity College, Cambri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339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ements/other work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ton’s first major public scientific achievement was the invention, design and construction of a reflecting telescop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ton became Lucasian Professor of Mathematics in 166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ac’s knowledge of the Bible impressed the people around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457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the theories of gravitation in 1666, when he was only 23 years 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666, Newton had formulated early versions of his three Laws of Mo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 that all bodies exert a gravitational attraction on surrounding bod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impressed force is an action exerted upon a body, in order to change its state, either of rest, or of moving uniformly forward in a right l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quantity of motion is the measure of the same, arising from the velocity and quantity of matter conjunct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gured out the force needed to hold a stone in a s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culated the force needed to keep the moon in mo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ileoandeinstein.physics.virginia.edu/lectures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t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scidiv.bellevuecollege.edu/MATH/Newt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isaacnewtons.com/ma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tinternet.com/~glynhughes/squashed/newton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6:56:55Z</dcterms:created>
  <dc:creator>Owner</dc:creator>
  <dc:description/>
  <dc:language>en-US</dc:language>
  <cp:lastModifiedBy>Owner</cp:lastModifiedBy>
  <dcterms:modified xsi:type="dcterms:W3CDTF">2010-02-05T08:04:03Z</dcterms:modified>
  <cp:revision>3</cp:revision>
  <dc:subject/>
  <dc:title>Isaac Newton</dc:title>
</cp:coreProperties>
</file>